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CD8-2BC9-46E8-BC3E-A8BAA04B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692-8A75-4319-8C28-357AD5ED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B5E-1A12-463B-9A4D-7274C0C4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2FC-8915-48C6-80F9-D3F00664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825-5739-44DB-85CB-84FC41A0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2E5-BA60-4B04-8C19-226925B2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47E-36F6-4ED4-897F-2B7AB189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908-3799-4F52-97DB-DD67D443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217-3D3B-498D-9336-A9A1CE1E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3EB-9589-4C7C-84F5-18443F0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EAC-BD87-4AA3-B5E9-62BBC7AD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411-1B81-43D7-92B2-556AC12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A00-6F86-4671-AF80-E2ED21B9A5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Asus</cp:lastModifiedBy>
  <dcterms:modified xsi:type="dcterms:W3CDTF">2018-11-24T09:41:02Z</dcterms:modified>
  <cp:revision>41</cp:revision>
  <dc:subject/>
  <dc:title>TITLE</dc:title>
</cp:coreProperties>
</file>